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0046-7DB6-4352-9A6E-2BDF7E6F9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3F3D-C56F-47E0-A134-2458ACA0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7C05-3CF5-4443-BDFB-D9218D9DF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401C-6631-43DB-AEAE-9A76FB2A9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3CC9-F400-4A09-9DE2-6707AD6B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1F99-5B9A-4E2D-9093-E9267C2E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36DE-BB6A-4B5A-836D-C9D84328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E60B-5FCD-48B9-8CF2-6AA59EC3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9189-1673-4FA9-8193-5C00D169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90F5-EBDD-4CCF-BC7E-4A8EE36C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94F0-23B5-4252-9061-A0054969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12FE-2CF1-4031-AAD3-90B661FD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C302-DFC8-4783-A8E9-01D02942BA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图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92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图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Grap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是一种较线性表和树更为复杂的非线性结构。在线性结构中，结点之间的关系是线性关系，除开始结点和终端结点外，每个结点只有一个直接前趋和直接后继。在树形结构中，结点之间的关系实质上是层次关系，同层上的每个结点可以和下一层的零个或多个结点（即孩子）相关，但只能和上一层的一个结点（即双亲）相关（根结点除外）。然而在图结构中，对结点（图中常称为顶点）的前趋和后继个数都是不加限制的，即结点之间的关系是任意的。图中任意两个结点之间都可能相关。由此，图的应用极为广泛，特别是近年来的迅速发展，已渗透到诸如语言学、逻辑学、物理、化学、电讯工程、计算机科学以及数学的其它分支中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若图中顶点信息是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至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的编号，则仅需令权值为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，存储一个邻接矩阵就可以表示图。若是网络，则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jtype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为权的类型。由于无向图或无向网络的邻接矩阵是对称的，故可采用压缩存储的方法，仅存储下三角阵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不包括对角线上的元素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中的元素即可。显然，邻接矩阵表示法的空间复杂度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(n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(n</a:t>
            </a:r>
            <a:r>
              <a:rPr b="0" lang="zh-CN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CREATGRAPH(ga)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／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建立无向网络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Graph * ga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int i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float w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for(i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ga -&gt;vexs[i]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getchar(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；／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读入顶点信息，建立顶点表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for(i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for(j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j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ga -&gt;arcs[i][j]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；     ／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邻接矩阵初始化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for(k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k++)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／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读入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条边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(scanf(”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％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％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％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f”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&amp;I,&amp;j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&amp;w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；／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读入边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lang="zh-CN" sz="16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1600" spc="-1" strike="noStrike" baseline="-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上的权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w *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ga -&gt;arcs[i][j]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ga - &gt;arcs[j][i]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／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*CREATGRAPH *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该算法的执行时间是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(n+n</a:t>
            </a:r>
            <a:r>
              <a:rPr b="0" lang="zh-CN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e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，其中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(n</a:t>
            </a:r>
            <a:r>
              <a:rPr b="0" lang="zh-CN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的时问耗费在邻接矩阵的初始化操作上。因为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zh-CN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，所以，算法的时间复杂度是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(n</a:t>
            </a:r>
            <a:r>
              <a:rPr b="0" lang="zh-CN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邻接表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种表示法类似于树的孩子链表表示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于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的每个顶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该方法把所有邻接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顶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链成一个单链表，这个单链表就称为顶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邻接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Adjacency List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邻接表中每个表结点均有两个域，其一是邻接点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Adjvex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用以存放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相邻接的顶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序号；其二是链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Next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用来将邻接表的所有表结点链在一起。并且为每个顶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邻接表设置一个具有两个域的表头结点：一个是顶点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vertex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用来存放顶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信息；另一个是指针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Link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用于存入指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邻接表中第一个表结点的头指针。为了便于随机访问任一顶点的邻接表，将所有邻接表的表头结点顺序存储在一个向量中，这样，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就可以由这个表头向量来表示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0948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建立有向图的邻接表与此类似，只是更加简单，每读入一个顶点对序号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＞时，仅需生成十个邻接点序号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边表结点，将其插入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出边表头部即可。若建立网络的邻接表，则需在边表的每个结点中增加一个存储边上权的数据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值得注意的是，一个图的邻接矩阵表示是唯一的，但其邻接表表示不唯一，这是因为邻接表表示中，各边表结点的链接次序取决于建立邻接表的算法以及边的输入次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邻接矩阵和邻接表是图的两种最常用的存储结构，它们各有所长。下面从空间及执行某些常用操作的时间这两方面来作一比较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邻接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或逆邻接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表示中，每个边表对应于邻接矩阵的一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或一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边表中结点个数等于一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或一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中非零元素的个数。对于一个具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个顶点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条边的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若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是无向图，则它的邻接表表示中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个顶点表结点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个边表结点；若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是有向图，则它的邻接表表示或逆邻接表表示中均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个顶点表结点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个边表结点。因此邻接表或逆邻接表表示的空间复杂度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(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O(n+e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若图中边的数目远远小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即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＜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此类图称作稀疏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Sparse Graph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这时用邻接表表示比用邻接矩阵表示节省存储空间；若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接近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准确地说，无向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接近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(n-1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有向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接近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(n-1)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此类图称作稠密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Dense Graph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考虑到邻接表中要附加链域，则应取邻接矩阵表示法为宜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无向图中求顶点的度，邻接矩阵及邻接表两种存储结构都很容易做到：邻接矩阵中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或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列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上非零元素的个数即为顶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度；在邻接表表示中，顶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度则是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边表中的结点个数。在有向图中求顶点的度。采用邻接矩阵表示比邻接表表示更方便：邻接矩阵中的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行上非零元素的个数是顶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出度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(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列上非零元素的个数是顶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入度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(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顶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度即是二者之和；在邻接表表示中，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边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即出边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上的结点个数是顶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出度，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入度较困难，需遍历各顶点的边表。若有向图采用逆邻接表表示，则与邻接表表示相反，求顶点的入度容易，而求顶点出度较难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邻接矩阵表示中，很容易判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或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＞是否是图的一条边，只要判定矩阵中的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行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列上的那个元素是否为零即可；但是在邻接表表示中，需扫描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边表，最坏情况下要耗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(n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时间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邻接矩阵中求边的数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必须检测整个矩阵，所耗费的时间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0(n</a:t>
            </a:r>
            <a:r>
              <a:rPr b="0" lang="zh-CN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大小无关；而在邻接表表示中，只要对每个边表的结点个数计数即可求得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所耗费的时间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0(e+n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因此，当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＜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时，采用邻接表表示更节省时间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图的遍历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和树的遍历类似，图的遍历也是从某个顶点出发，沿着某条搜索路径对图中所有顶点各作一次访问。若给定的图是连通图，则从图中任一顶点出发顺着边可以访问到该图的所有顶点。然而，图的遍历比树的遍历复杂得多，这是因为图中的任一顶点都可能和其余顶点相邻接，故在访问了某个顶点之后，可能顺着某条回路又回到了该顶点。为了避免重复访问同一个顶点，必须记住每个顶点是否被访问过。为此，可设置一个布尔向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isited[n]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它的初值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一旦访问了顶点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8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便将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isited[i-1]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置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深度优先搜索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Depth-First-Search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遍历类似于树的前序遍历。假设给定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初态是所有顶点均未访问过，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任选一顶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为初始出发点，则深度优先搜索可定义如下：首先，访问出发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并将其标记为已访问过，然后，依次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出发搜索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每一个邻接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未曾访问过，则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为新的出发点继续进行深度优先搜索。显然上述搜索法是递归定义的，它的特点是尽可能先对纵深方向进行搜索，故称之为深度优先搜索。例如，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刚访问过的顶点，按深度优先搜索方法，下一步将选择一条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出发的未检测过的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y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若发现顶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已被访问过，则重新选择另一条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出发的未检测过的边。若发现顶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未曾访问过，则沿此边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到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访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并将其标记为已访问过，然后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开始搜索，直到搜索完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出发的所有路径，才回溯到顶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然后再选择一条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出发的未检测过的边。上述过程直至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出发的所有边都已检测过为止。此时，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不是初始出发点，则回溯到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之前被访问过的顶点；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初始出发点，则整个搜索过程结束。显然这时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所有和初始出发点有路径相通的顶点都已被访问过。因此，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连通图，则从初始出发点开始的搜索过程结束，也就意味着完成了对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遍历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该存储结构上执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F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算法的过程如下：设初始出发点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则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F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的执行结果是访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将其置上已访问标记，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搜索到的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邻接点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未曾访问过，故调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FS(1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执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FS(1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首先访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将其标记为已访问过，然后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搜索到的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邻接点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已访问过，故继续搜索到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邻接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未曾访过，因此调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FS(3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类似地分析，访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后调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FS(7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访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后调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PS(4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执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FS(4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时，在访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并作标记后，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搜索到的两个邻接点依次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因为它们均已被访问过，所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FS(4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执行结束返回，回溯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又因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两个邻接点已搜索过，故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FS(7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亦结束返回，回溯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类似地由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回溯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邻接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已搜索过，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邻接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还尚未搜索，故接下来由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搜索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但因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已访问过，所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FS(1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也结束返回，回溯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邻接点已搜索过，故继续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搜索到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邻接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因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未曾访问过，故调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FS(2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类似地依次访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后，又由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依次回溯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此时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所有邻接点都已搜索过，故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FS(0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执行完毕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宽度优先搜索法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宽度优先搜索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readth-First-Search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遍历类似于树的按层次遍历。设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初态是所有顶点均未访问过，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任选一顶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为初始出发点，则宽度优先搜索的基本思想是：首先访问出发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接着依次访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所有邻接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…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然后，再依次访问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…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邻接的所有未曾访问过的顶点，依此类推，直至图中所有和初始出发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有路径相通的顶点都已访问到为止。此时，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开始的搜索过程结束，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连通图则遍历完成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显然，上述搜索法的特点是尽可能先对横向进行搜索，故称之为宽度优先搜索。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两个相继被访问过的顶点，若当前是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为出发点进行搜索，则在访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所有未曾访问过的邻接点之后，紧接着是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为出发点进行横向搜索，并对搜索到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邻接点中尚未被访问的顶点进行访问。也就是说，先访问的顶点其邻接点亦先被访问。为此，需引进队列保存已访问过的顶点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最小生成树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的生成树不是唯一的，从不同的顶点出发进行遍历，可以得到不同的生成树。对于连通网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边是带权的，因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生成树的各边也是带权的。我们把生成树各边的权值总和称为生成树的权，并把权最小的生成树称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小生成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inimun Spanning Tree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生成树和最小生成树有许多重要的应用。令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顶点表示城市，边表示连接两个城市之间的通讯线路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城市之间最多可设立的线路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(n-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，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城市连接起来至少要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线路，则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生成树表示了建立通讯网络的可行方案。如果给图中的边都赋予权，而这些权可表示两个城市之间通讯线路的长度或建造代价，那么，如何选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线路，使得建立的通讯网络其线路的总长度最短或总代价最小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就是要构造该图的一棵最小生成树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基本定义和术语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若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的每条边都是有方向的，则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向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grap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。在有向图中，一条有向边是由两个顶点组成的有序对，有序对通常用尖括号表示。例如，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＞表示一条有向边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边的始点（起点）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边的终点。因此，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＞和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＞是两条不同的有向边。有向边也称为弧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r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，边的始点称为弧尾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ai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，终点称为弧头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ea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由两个集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组成，记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其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顶点的有穷非空集合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顶点偶对（称为边）的有穷集。通常，也将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顶点集和边集分别记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(G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(G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(G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以是空集，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(G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空，则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只有顶点而没有边，称为空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下我们只讨论无向图的最小生成树问题。构造最小生成树可以有多种算法，其中大多数构造算法都是利用了最小生成树的下述性质：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一个连通网络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顶点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一个真子集。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所有的一个端点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∈U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里、另一个端点不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∈V-U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里的边中，具有最小权值的一条边，则一定存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一棵最小生成树包含此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这个性质称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S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性质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S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性质可用反证法证明：假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任何一棵最小生成树中都不含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一棵最小生成树，但不包含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由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树，且是连通的，因此有一条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路径；且该路径上必有一条连接两个顶点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-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u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′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其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′∈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′∈V-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否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连通。当把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加入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，得到一个含有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回路，见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1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删去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u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′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上述回路即被消除，由此得到另一棵生成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区别仅在于用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取代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的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u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′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因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权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u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′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权，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权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权，因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也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最小生成树，它包含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与假设矛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假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连通网络，为简单起见，我们用序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至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来表示顶点集合，即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…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设所求的最小生成树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其中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顶点集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边集。并且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边上的权看做是长度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算法的基本思想是：首先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任取一个顶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将生成树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置为仅有一个结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树，即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u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然后只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真子集，就在所有那些其一个端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己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即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另一个端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还未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即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边中，找一条最短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即权最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并把该条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其不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的顶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分别并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边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顶点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如此进行下去，每次往生成树里并入一个顶点和一条边，直到把所有顶点都包括进生成树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为止。此时，必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条边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性质保证上述过程求得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一棵最小生成树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显然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算法的关键是如何找到连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-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最短边来扩充生成树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为直观解释方便，设想在构造过程中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顶点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顶点和边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的边均被涂成红色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之外的顶点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-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的顶点均被涂成蓝色，连接红点和蓝点的边均被涂成紫色，那么．最短紫边就是连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-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最短边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最短路径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交通网络中常常提出这样的问题：从甲地到乙地之间是否有公路连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有多条通路的情况下，哪一条路最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交通网络可用带权图来表示。顶点表示城市名称，边表示两个城市有路连通，边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值可表示两城市之间的距离、交通费或途中所花费的时间等。求两个顶点之间的最短路径，不是指路径上边数之和最少，而是指路径上各边的权值之和最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另外，若两个顶点之间没有边，则认为两个顶点无通路，但有可能有间接通路（从其他顶点达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。路径上的开始顶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出发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称为源点，路径上的最后一个顶点称为终点，并假定讨论的权值不能为负数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所有顶点对之间的最短路径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所有顶点对之间的最短路径是指：对于给定的有向网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G=(V,E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要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中任意一对顶点有序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(V≠W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找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最短距离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最短距离。解决此问题的一个有效方法是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轮流以每一个顶点为源点，重复执行迪杰斯特拉算法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次，即可求得每一对顶点之间的最短路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总的时间复杂度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弗洛伊德算法仍然使用前面定义的图的邻接矩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st[n+1][n+1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来存储带权有向图。算法的基本思想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置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x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矩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(k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其中除对角线的元素都等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外，其他元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(k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i][j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顶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到顶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路径长度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运算步骤。开始时，以任意两个顶点之间的有向边的权值作为路径长度，没有有向边时，路径长度为∞，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=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 (0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i][j]=arcs[i][j]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后逐步尝试在原路径中加入其他顶点作为中间顶点，如果增加中间顶点后，得到的路径比原来的路径长度减少了，则以此新路径代替原路径，修改矩阵元素。具体做法为：第一步，让所有边上加入中间顶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[i][j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[i][1]+A[1][j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较小的值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[i][j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，完成后得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第二步，让所有边上加入中间顶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[i][j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[i][2]+A[2][j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较小的值，完成后得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如此进行下去，当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步完成后，得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(n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(n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即为我们所求结果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(n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i][j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顶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到顶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最短距离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拓扑排序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通常我们把计划、施工过程、生产流程、程序流程等都当成一个工程，一个大的工程常常被划分成许多较小的子工程，这些子工程称为活动，这些活动完成时，整个工程也就完成了。例如，计算机专业学生的课程开设可看成是一个工程，每一门课程就是工程中的活动，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2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给出了若干门所开设的课程，其中有些课程的开设有先后关系，有些则没有先后关系，有先后关系的课程必须按先后关系开设，如开设数据结构课程之前必须先学完程序设计基础及离散数学，而开设离散数学则必须学完高等数学。在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2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中，我们用一种有向图来表示课程开设，在这种有向图中，顶点表示活动，有向边表示活动的优先关系，这有向图叫做顶点表示活动的网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Active On Vertices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简称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O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网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O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网中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i,j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向边表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活动应先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活动开始，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活动必须完成后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活动才可以开始，并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直接前驱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直接后继。这种前驱与后继的关系有传递性，此外，任何活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能以它自己作为自己的前驱或后继，这叫做反自反性。从前驱和后继的传递性和反自反性来看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O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网中不能出现有向回路（或称有向环）。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O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网中如果出现了有向环，则意味着某项活动应以自己作为先决条件，这是不对的，工程将无法进行。对程序流程而言，将出现死循环。因此，对给定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O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网，应先判断它是否存在有向环。判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O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网是否有有向环的方法是对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O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网进行拓扑排序，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O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网中顶点排列成一个线性有序序列，若该线性序列中包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O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网全部顶点，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O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网无环，否则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O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网中存在有向环，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O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网所代表的工程是不可行的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本章小结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图是一种复杂的非线性结构，具有广泛的应用背景。本章涉及到的基本概念有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图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由两个集合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组成，记为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V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其中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顶点的有穷非空集合，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顶点偶对（称为边）的有穷集。通常，也将图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顶点集和边集分别记为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(G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(G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(G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可以是空集，若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(G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为空，则图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只有顶点而没有边，称为空图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向图（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igraph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若图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的每条边都是有方向的，则称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为有向图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无向图（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Undigraph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：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若图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的每条边都是没有方向的，则称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为无向图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无向完全图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Undirected Complete Graph)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恰好有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(n-1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／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条边的无向图称为无向完全图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向完全图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Directed Complete Graph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恰有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(n-1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条边的有向图称为有向完全图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邻接点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Adjacent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若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vi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j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一条无向边，则称顶点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i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j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互为邻接点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度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Degree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无向图中顶点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度是关联于该顶点的边的数目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度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ndegree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若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为有向图，则把以顶点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为终点的边的数目，称为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人度，记为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D(v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出度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outdegree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把以顶点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为始点的边的数目，称为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出度，记为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D(v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子图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Subgraph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设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V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一个图，若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</a:t>
            </a: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′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子集，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</a:t>
            </a: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′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子集，且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</a:t>
            </a: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′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的边所关联的顶点均在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</a:t>
            </a: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′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，则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</a:t>
            </a: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′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V</a:t>
            </a: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′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</a:t>
            </a: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′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也是一个图，并称其为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子图。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路径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Path)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在无向图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，若存在一个顶点序列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p,vi1,vi2…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in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q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使得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vp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il)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vi1,vi2)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…，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vin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q)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均属于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(G)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则称顶点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p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到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q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存在一条路径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路径长度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该路径上边的数目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简单路径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若一条路径上除了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p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q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可以相同外，其余顶点均不相同，则称此路径为一条简单路径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简单回路或简单环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Cycle)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起点和终点相同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vp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q)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简单路径称为简单回路或简单环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根图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在一个有向图中，若存在一个顶点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从该顶点有路径可以到达图中其它所有顶点，则称此有向图为有根图，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称作图的根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连通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在无向图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，若从顶点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i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到顶点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j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路径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当然从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j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到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i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也一定有路径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则称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i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j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连通的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连通图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Connected Graph)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若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(G)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任意两个不同的顶点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i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j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都连通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即有路径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则称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为连通图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连通分量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connected Component)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无向图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极大连通子图称为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连通分量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强连通图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在有向图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，若对于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(G)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任意两个不同的顶点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i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j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都存在从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i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到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j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以及从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j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到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i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路径，则称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强连通图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强连通分量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有向图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极大强连通子图称为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强连通分量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网络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Network)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若将图的每条边都赋上一个权，则称这种带权图为网络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成树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Spanning Tree)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连通图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一个子图如果是一棵包含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所有顶点的树，则该子图称为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生成树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最小生成树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Minimun Spanning Tree)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权最小的生成树称为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最小生成树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本章在介绍图的基本概念的基础上，还介绍了图的两种常用的存储结构，对图的遍历、最小生成树等问题做了较详细的讨论，给出了相应的求解算法，有的算法采用自顶向下、逐步求精的方法加以介绍，也许能便于读者理解它们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相对而言之，图这一章内容较难，尤其是离散数学基础较差的读者，也许难度更大些。建议读者知难而进，理解本章所介绍的算法实质，掌握图的有关术语和存储表示。面对实际问题时，学会引用本章的有关内容。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一条无向边，则称顶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互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邻接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djacent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或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相邻接；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关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cident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于顶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或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顶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相关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与顶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相邻接的顶点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而关联于顶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边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若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＞是一条有向边，则称顶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邻接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顶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邻接于顶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并称边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＞关联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称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＞与顶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相关联。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关联于顶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边是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＞，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＞和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＞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无向图中顶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Degree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关联于该顶点的边的数目，记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(v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有向图，则把以顶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终点的边的数目，称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ndegree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记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(v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把以顶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始点的边的数目，称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出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outdegree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记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D(v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顶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度则定义为该顶点的入度和出度之和，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(v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(v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D(v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无向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，若存在一个顶点序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q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使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…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均属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(G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称顶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存在一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Path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有向图，则路径也是有向的，它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(G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的有向边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＞，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＞，…，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＞组成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径长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义为该路径上边的数目。若一条路径上除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以相同外；其余顶点均不相同，则称此路径为一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简单路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起点和终点相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简单路径称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简单回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简单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Cycle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例如，在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顶点序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一条从顶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到顶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长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简单路径；顶点序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一条从顶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到顶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长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路径，但不是简单路径；顶点序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一个长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简单环。在有向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，顶点序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一个长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有向简单环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一个有向图中，若存在一个顶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从该顶点有路径可以到达图中其它所有顶点，则称此有向图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有根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称作图的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无向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，若从顶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到顶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有路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当然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也一定有路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则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连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。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(G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任意两个不同的顶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都连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即有路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则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连通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nected Graph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例如，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连通图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无向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极大连通子图称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连通分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nected Component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显然，任何连通图的连通分量只有一个，即是其自身，而非连通的无向图有多个连通分量。例如，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非连通图，它有两个连通分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有向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，若对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(G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任意两个不同的顶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都存在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以及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路径，则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强连通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有向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极大强连通子图称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强连通分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显然，强连通图只有一个强连通分量，即是其自身。非强连通的有向图有多个强连通分量。例如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7-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不是强连通图，因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没有路径，但它有两个强连通分量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3429000"/>
            <a:ext cx="8382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若将图的每条边都赋上一个权，则称这种带权图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网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Network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通常权是具有某种意义的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2408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076480" y="685800"/>
          <a:ext cx="529416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6480" y="685800"/>
                    <a:ext cx="529416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3160" y="2590920"/>
            <a:ext cx="3809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它们可以表示两个顶点之间的距离，耗费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76760" y="30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4956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图的存储结构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邻接矩阵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djacency Matrix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是表示顶点之间相邻关系的矩阵。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是具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个顶点的图，则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邻接矩阵是具有如下性质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阶方阵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957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648320" y="3792600"/>
                <a:ext cx="380988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i,j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：若（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）或</m:t>
                              </m:r>
                              <m:r>
                                <m:t xml:space="preserve">&l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r>
                                <m:t xml:space="preserve">是E</m:t>
                              </m:r>
                              <m:r>
                                <m:t xml:space="preserve">（</m:t>
                              </m:r>
                              <m:r>
                                <m:t xml:space="preserve">G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）中的边</m:t>
                              </m:r>
                              <m:m>
                                <m:mr>
                                  <m:e>
                                    <m:m>
                                      <m:mr>
                                        <m:e/>
                                        <m:e/>
                                      </m:mr>
                                    </m:m>
                                  </m:e>
                                  <m:e/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：若（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）或</m:t>
                              </m:r>
                              <m:r>
                                <m:t xml:space="preserve">&l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不是</m:t>
                              </m:r>
                              <m:r>
                                <m:t xml:space="preserve">E</m:t>
                              </m:r>
                              <m:r>
                                <m:t xml:space="preserve">（</m:t>
                              </m:r>
                              <m:r>
                                <m:t xml:space="preserve">G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）中的边</m:t>
                              </m:r>
                              <m:m>
                                <m:mr>
                                  <m:e/>
                                  <m:e/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邻接矩阵表示法表示图，除了存储用于表示顶点间相邻关系的邻接矩阵外，通常还需要用一个顺序表来存储顶点信息。其形式说明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# define n 6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 *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的顶点数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 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# define e 8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 *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的边（弧）数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ypedef char vextyp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 *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顶点的数据类型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 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ypedef float adjtyp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 *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权值类型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 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ypedef str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vextype vexs[n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jtype arcs[n][n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grap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3T20:40:50Z</dcterms:created>
  <dc:creator>y</dc:creator>
  <dc:description/>
  <dc:language>en-US</dc:language>
  <cp:lastModifiedBy>王凌</cp:lastModifiedBy>
  <dcterms:modified xsi:type="dcterms:W3CDTF">2002-06-12T14:58:38Z</dcterms:modified>
  <cp:revision>31</cp:revision>
  <dc:subject/>
  <dc:title>图 </dc:title>
</cp:coreProperties>
</file>